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F2352-20DD-428D-B831-9172DE12EE4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FC7C2-2073-4D79-BDD2-A798CAF863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4E4CF-186B-47EB-861A-4A962BF9B1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BC414-D061-48AA-ADEB-F76EF71E94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5DDDF-4B80-4BC2-B1AE-0E793C5B6D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DE17-7BD2-4597-BF11-8497044816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26BE-7DA1-4CA7-BE5C-DF8DDED9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6C45-A8CE-45A2-A5AF-4CB0C772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394F-3B36-423A-BF87-7DB980047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3AC3-4F75-4436-BED7-8F1DB42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A3EB-6C53-4E8C-A626-C44E61AA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CE39-4FEF-4E6E-BC88-2EA5C188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DB50-45B3-45CD-BA05-AE4B3261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338D-EB85-4334-98EF-4377CBCD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CE0A-C995-419D-BF64-FE190C5A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867F2-6D7E-49D7-9A30-70F6BEA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68CE7-E3FD-4543-A56C-11137756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F18633-A420-4958-A590-E339A1947585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G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716040" y="584280"/>
            <a:ext cx="2340000" cy="3240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g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3419640" y="907920"/>
            <a:ext cx="2298600" cy="286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4"/>
          <a:stretch/>
        </p:blipFill>
        <p:spPr>
          <a:xfrm>
            <a:off x="6156360" y="907920"/>
            <a:ext cx="2298600" cy="2862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971640" y="83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germin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042920" y="3716280"/>
            <a:ext cx="2158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emilla enterrada en condiciones adecuadas, empieza a absorber agua y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embrión comienza su  desarrollo,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expensas d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reservas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cotiled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780000" y="3716280"/>
            <a:ext cx="215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envolturas d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a semilla se rompen y salen una raíz, que crece hacia abajo y un tallo, que lo hace hacia la superfic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516720" y="371628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el tallo aflora a la superficie, forma hojas que comienzan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hacer la fotosíntesis. Así se nutre a partir de ahora la nueva planta, que proseguirá su crecimiento y su desarroll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2982960" y="2565360"/>
            <a:ext cx="539640" cy="539640"/>
          </a:xfrm>
          <a:custGeom>
            <a:avLst/>
            <a:gdLst>
              <a:gd name="textAreaLeft" fmla="*/ 0 w 539640"/>
              <a:gd name="textAreaRight" fmla="*/ 540000 w 53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5719680" y="2565360"/>
            <a:ext cx="540000" cy="539640"/>
          </a:xfrm>
          <a:custGeom>
            <a:avLst/>
            <a:gdLst>
              <a:gd name="textAreaLeft" fmla="*/ 0 w 540000"/>
              <a:gd name="textAreaRight" fmla="*/ 540360 w 5400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15 CuadroTexto"/>
          <p:cNvSpPr/>
          <p:nvPr/>
        </p:nvSpPr>
        <p:spPr>
          <a:xfrm>
            <a:off x="539640" y="3645000"/>
            <a:ext cx="287280" cy="36828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18 CuadroTexto"/>
          <p:cNvSpPr/>
          <p:nvPr/>
        </p:nvSpPr>
        <p:spPr>
          <a:xfrm>
            <a:off x="3203640" y="3645000"/>
            <a:ext cx="288720" cy="36828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9 CuadroTexto"/>
          <p:cNvSpPr/>
          <p:nvPr/>
        </p:nvSpPr>
        <p:spPr>
          <a:xfrm>
            <a:off x="6084720" y="3645000"/>
            <a:ext cx="287640" cy="36828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5:38Z</dcterms:modified>
  <cp:revision>45</cp:revision>
  <dc:subject/>
  <dc:title>Diapositiva 1</dc:title>
</cp:coreProperties>
</file>